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Futura"/>
              </a:rPr>
              <a:t>Click to move the slide</a:t>
            </a:r>
            <a:endParaRPr b="0" lang="en-US" sz="7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72"/>
                </a:solidFill>
                <a:latin typeface="Futu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EF6F-8B06-4500-9A15-39DA0FF0761D}" type="slidenum">
              <a:rPr b="0" lang="en-US" sz="1200" spc="-1" strike="noStrike">
                <a:solidFill>
                  <a:srgbClr val="727272"/>
                </a:solidFill>
                <a:latin typeface="Futura"/>
              </a:rPr>
              <a:t>&lt;number&gt;</a:t>
            </a:fld>
            <a:endParaRPr b="0" lang="en-US" sz="12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C3E9-DF5C-4C8F-9EBB-454E87B48BDF}" type="slidenum">
              <a:rPr b="0" lang="en-US" sz="1200" spc="-1" strike="noStrike">
                <a:solidFill>
                  <a:srgbClr val="727272"/>
                </a:solidFill>
                <a:latin typeface="Futura"/>
              </a:rPr>
              <a:t>&lt;number&gt;</a:t>
            </a:fld>
            <a:endParaRPr b="0" lang="en-US" sz="12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"/>
              </a:rPr>
              <a:t>http://www.opencourtresources.com</a:t>
            </a:r>
            <a:endParaRPr b="0" lang="en-US" sz="12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2361960"/>
            <a:ext cx="9816840" cy="148572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880" y="3835440"/>
            <a:ext cx="9816840" cy="69840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38160" rIns="38160" tIns="38160" bIns="38160" anchor="t">
            <a:normAutofit fontScale="18000"/>
          </a:bodyPr>
          <a:p>
            <a:pPr marL="615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1" marL="61560" indent="-61560" algn="ctr">
              <a:buClr>
                <a:srgbClr val="ffffff"/>
              </a:buClr>
              <a:buFont typeface="Futu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2" marL="61560" indent="-61560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3" marL="61560" indent="-61560" algn="ctr">
              <a:buClr>
                <a:srgbClr val="ffffff"/>
              </a:buClr>
              <a:buFont typeface="Futu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4" marL="61560" indent="-61560" algn="ctr">
              <a:buClr>
                <a:srgbClr val="ffffff"/>
              </a:buClr>
              <a:buFont typeface="Futur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5" marL="61560" indent="-61560" algn="ctr">
              <a:buClr>
                <a:srgbClr val="727272"/>
              </a:buClr>
              <a:buFont typeface="Futur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6" marL="61560" indent="-61560" algn="ctr">
              <a:buClr>
                <a:srgbClr val="727272"/>
              </a:buClr>
              <a:buFont typeface="Futur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90720" y="1790280"/>
            <a:ext cx="3936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3000"/>
          </a:bodyPr>
          <a:p>
            <a:pPr marL="45648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1" marL="70668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2" marL="95688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3" marL="121644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4" marL="146700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5" marL="1467000" indent="-298800">
              <a:spcBef>
                <a:spcPts val="27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6" marL="1467000" indent="-298800">
              <a:spcBef>
                <a:spcPts val="27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95000" y="3784680"/>
            <a:ext cx="4584600" cy="2286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3000"/>
          </a:bodyPr>
          <a:p>
            <a:pPr marL="250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1" marL="250200" indent="-250200" algn="ctr">
              <a:buClr>
                <a:srgbClr val="727272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2" marL="250200" indent="-250200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3" marL="250200" indent="-250200" algn="ctr">
              <a:buClr>
                <a:srgbClr val="727272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4" marL="250200" indent="-250200" algn="ctr">
              <a:buClr>
                <a:srgbClr val="727272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5" marL="250200" indent="-250200" algn="ctr">
              <a:buClr>
                <a:srgbClr val="727272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6" marL="250200" indent="-250200" algn="ctr">
              <a:buClr>
                <a:srgbClr val="727272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95000" y="1549080"/>
            <a:ext cx="4584600" cy="213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5c223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75c223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5600" indent="-414720">
              <a:spcBef>
                <a:spcPts val="3300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1" marL="934200" indent="-414720">
              <a:spcBef>
                <a:spcPts val="3300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2" marL="1253160" indent="-414720">
              <a:spcBef>
                <a:spcPts val="3300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3" marL="1584000" indent="-414720">
              <a:spcBef>
                <a:spcPts val="3300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4" marL="1902960" indent="-414720">
              <a:spcBef>
                <a:spcPts val="3300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5" marL="1902960" indent="-414720">
              <a:spcBef>
                <a:spcPts val="3300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6" marL="1902960" indent="-414720">
              <a:spcBef>
                <a:spcPts val="3300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9271080" y="165240"/>
            <a:ext cx="812880" cy="7277040"/>
          </a:xfrm>
          <a:prstGeom prst="rect">
            <a:avLst/>
          </a:prstGeom>
          <a:solidFill>
            <a:srgbClr val="ed7c26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6070680" y="1790280"/>
            <a:ext cx="309888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5000"/>
          </a:bodyPr>
          <a:p>
            <a:pPr marL="406440" indent="-26604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1" marL="629280" indent="-26604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2" marL="852120" indent="-26604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3" marL="1083240" indent="-26604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4" marL="1306080" indent="-26604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5" marL="1306080" indent="-266040">
              <a:spcBef>
                <a:spcPts val="27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6" marL="1306080" indent="-266040">
              <a:spcBef>
                <a:spcPts val="27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672120" indent="-428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1" marL="1001160" indent="-428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2" marL="1330560" indent="-428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3" marL="1671480" indent="-428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4" marL="2000880" indent="-428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5" marL="2000880" indent="-428040">
              <a:spcBef>
                <a:spcPts val="79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6" marL="2000880" indent="-428040">
              <a:spcBef>
                <a:spcPts val="79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62040" indent="-446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1" marL="1004760" indent="-446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2" marL="1347840" indent="-446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3" marL="1703520" indent="-446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4" marL="2046240" indent="-446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5" marL="2046240" indent="-446040">
              <a:spcBef>
                <a:spcPts val="189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6" marL="2046240" indent="-446040">
              <a:spcBef>
                <a:spcPts val="189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5600" indent="-414720">
              <a:spcBef>
                <a:spcPts val="3300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1" marL="934200" indent="-414720">
              <a:spcBef>
                <a:spcPts val="3300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2" marL="1253160" indent="-414720">
              <a:spcBef>
                <a:spcPts val="3300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3" marL="1584000" indent="-414720">
              <a:spcBef>
                <a:spcPts val="3300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4" marL="1902960" indent="-414720">
              <a:spcBef>
                <a:spcPts val="3300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5" marL="1902960" indent="-414720">
              <a:spcBef>
                <a:spcPts val="3300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6" marL="1902960" indent="-414720">
              <a:spcBef>
                <a:spcPts val="3300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3"/>
          <p:cNvGrpSpPr/>
          <p:nvPr/>
        </p:nvGrpSpPr>
        <p:grpSpPr>
          <a:xfrm>
            <a:off x="8013600" y="190440"/>
            <a:ext cx="1967040" cy="7265880"/>
            <a:chOff x="8013600" y="190440"/>
            <a:chExt cx="1967040" cy="7265880"/>
          </a:xfrm>
        </p:grpSpPr>
        <p:sp>
          <p:nvSpPr>
            <p:cNvPr id="190" name="Rectangle 4"/>
            <p:cNvSpPr/>
            <p:nvPr/>
          </p:nvSpPr>
          <p:spPr>
            <a:xfrm>
              <a:off x="8013600" y="2138400"/>
              <a:ext cx="1967040" cy="5317920"/>
            </a:xfrm>
            <a:prstGeom prst="rect">
              <a:avLst/>
            </a:prstGeom>
            <a:solidFill>
              <a:srgbClr val="edb60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utura"/>
                  <a:ea typeface="Futura"/>
                </a:rPr>
                <a:t> </a:t>
              </a:r>
              <a:endParaRPr b="0" lang="en-US" sz="3200" spc="-1" strike="noStrike">
                <a:solidFill>
                  <a:srgbClr val="727272"/>
                </a:solidFill>
                <a:latin typeface="Futura"/>
              </a:endParaRPr>
            </a:p>
          </p:txBody>
        </p:sp>
        <p:sp>
          <p:nvSpPr>
            <p:cNvPr id="191" name="Rectangle 5"/>
            <p:cNvSpPr/>
            <p:nvPr/>
          </p:nvSpPr>
          <p:spPr>
            <a:xfrm>
              <a:off x="8013600" y="190440"/>
              <a:ext cx="1967040" cy="1957320"/>
            </a:xfrm>
            <a:prstGeom prst="rect">
              <a:avLst/>
            </a:prstGeom>
            <a:solidFill>
              <a:srgbClr val="48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727272"/>
                </a:solidFill>
                <a:latin typeface="Futura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7840" y="190080"/>
            <a:ext cx="7835760" cy="195588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18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4880" y="3060360"/>
            <a:ext cx="9816840" cy="1485720"/>
          </a:xfrm>
          <a:prstGeom prst="rect">
            <a:avLst/>
          </a:prstGeom>
          <a:solidFill>
            <a:srgbClr val="db3d8a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990720" y="1790280"/>
            <a:ext cx="3936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3000"/>
          </a:bodyPr>
          <a:p>
            <a:pPr marL="45648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1" marL="70668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2" marL="95688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3" marL="121644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4" marL="1467000" indent="-29880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5" marL="1467000" indent="-298800">
              <a:spcBef>
                <a:spcPts val="27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6" marL="1467000" indent="-298800">
              <a:spcBef>
                <a:spcPts val="27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25320" indent="-40932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1" marL="968400" indent="-40968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2" marL="1311120" indent="-40932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3" marL="1666800" indent="-40932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4" marL="2009880" indent="-409680">
              <a:spcBef>
                <a:spcPts val="27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5" marL="2009880" indent="-409680">
              <a:spcBef>
                <a:spcPts val="27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6" marL="2009880" indent="-409680">
              <a:spcBef>
                <a:spcPts val="27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4880" y="2361960"/>
            <a:ext cx="9816840" cy="148572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Futura"/>
              </a:rPr>
              <a:t>Look Again</a:t>
            </a:r>
            <a:endParaRPr b="0" lang="en-US" sz="7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64880" y="3835440"/>
            <a:ext cx="9816840" cy="69840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2857680" y="2387520"/>
            <a:ext cx="4800600" cy="490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857680" y="2349360"/>
            <a:ext cx="4444920" cy="408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2540160" y="19051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2540160" y="248904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2070000" y="2463840"/>
            <a:ext cx="507996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3174840" y="3111480"/>
            <a:ext cx="381024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2705040" y="2806560"/>
            <a:ext cx="4754520" cy="316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2540160" y="3365640"/>
            <a:ext cx="5079960" cy="20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1" descr=""/>
          <p:cNvPicPr/>
          <p:nvPr/>
        </p:nvPicPr>
        <p:blipFill>
          <a:blip r:embed="rId1"/>
          <a:stretch/>
        </p:blipFill>
        <p:spPr>
          <a:xfrm>
            <a:off x="3772080" y="1569960"/>
            <a:ext cx="2171520" cy="52246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3238560" y="1892160"/>
            <a:ext cx="3670200" cy="555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641680" y="2489040"/>
            <a:ext cx="5079960" cy="379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What do you see?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1765440" y="2197080"/>
            <a:ext cx="6629400" cy="43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78928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eacher</cp:lastModifiedBy>
  <dcterms:modified xsi:type="dcterms:W3CDTF">2011-10-25T03:40:09Z</dcterms:modified>
  <cp:revision>2</cp:revision>
  <dc:subject/>
  <dc:title>Look Again</dc:title>
</cp:coreProperties>
</file>